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353F-2509-4294-BA1B-A26B5E88DEC7}" type="slidenum"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2A33-C730-416B-B9B0-DD3028DD55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EC68-E5B4-4604-9DB7-B7B970F13F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8A46-0221-422C-B12E-96DEB65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6C05-3F36-413A-941B-FB9718ED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83C6-06E1-48A6-95F4-DCF7F4A5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20B9-AEA7-4544-B430-6CAB183E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E0BE-6400-4A80-B997-4B9BF088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DB4C-365F-40A6-BEA5-55E6D5A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85F1-5F59-4012-ACFE-723E5A1C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85CF-AA4B-4A1E-BFAC-9AC56CC2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6A5-8E75-4170-AD9D-D2760D9B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D85A-F9F1-44D3-B731-9AC553A9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2765-5B79-4972-B94C-80CFD473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186E-BD96-4CD0-9C12-687B052F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B9FB-3540-4FBD-AF82-2F51D7F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099B-7FB3-4B7B-A438-F1A56C0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D550-4B60-4674-9944-EFBFA9D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F1D6-502B-4409-8D49-D6C68993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879F-F9BA-4277-9694-A5A32709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7412-BAA6-42F5-BF1E-E261632D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46F0-8FC8-4058-A7FC-A3F704F5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1B8F-1E1E-4C4A-AA08-2AD2D3C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80B9-6F42-4BEF-B614-A71FD6A5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D7ED-D2E4-4281-A0C9-71EC594E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D157-BCD2-4B70-B409-8E5EB91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9ECA-EDF0-4C97-8C67-ADAE97E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CEB5-3C1D-464B-ABA7-620AE513731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6A6-0178-43A6-83BE-2906C116777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51200" y="386280"/>
            <a:ext cx="82087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АСФ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365040" y="237960"/>
            <a:ext cx="1162080" cy="18687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023920" y="3024360"/>
            <a:ext cx="444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100728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Апсорпција и транспорт  аминокис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</a:rPr>
              <a:t>елина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кроз мембрану ентероцит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5040" y="17384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 и дипептиди апсорбују се из лумена танког црева помоћу специфичних транспортних систе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утралних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цикличних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минокиселина и глиц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азних АК и цист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иселе АК (аспарагинска и глутаминс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2120" y="1380960"/>
            <a:ext cx="9358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већи део азота који се унесе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тиче из протеина хра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намирницама се  налази и мала колич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протеинских органских супстанци ко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држе аз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и пут екскреције аз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елиминација путем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ре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ајњи производ катаболизма проте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796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ва непротеинска азотна једињ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лободне АК, уреа, креатин, креатин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краћна 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е из ткива излучују у циркулац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 из циркулације се путем бубрега излуч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орган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њихово излучивање је од великог значаја 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ње хомеостазе азота тј.азот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утем урина дневно се излучи 13г аз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ичина уреее 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N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 у директној вез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 нивооом протеина унетих 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о већину азота који се добија путем хране чине проте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јвећи део излученог азота потиче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агањ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вакав метаболизам протеина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актерише азотним биланс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07960" y="380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е дефинисан квантитативном разликом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унетог и излученог аз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итиван азотни 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нос протеина већи од излучи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ериод раста, развоја, трудно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гативан азотни 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лучује се више азота него што се уно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уготрајно гладовање, ГИТ обољењ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 катаболизам ткивних протеин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убитак протеина урином код бубрежних 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равнотежен азотни 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означава да је количина унетог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злученог азота из организма једн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бнављање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65040" y="145260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ви протеини у организму подлежу процесу обнављања тј. деградације и ресинт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чиме се постиж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рзе промене конц. главних регулатор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зима метаболичких путева,пептидних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а или  молек. рецет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аболичка флексибилност ћел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цеси раста и развоја зависе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авовремене деградације и синте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Обнављање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и протеини имају дуг полужив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лужив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агена изражава се у годин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гулаторних ензима изражава се у минут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а плазме износи око 15 д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азлагање ткивних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3668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кивни протеини разлажу се  дејств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целуларних проте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"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ележавање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"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протеина који је одређ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деградацију врши се везивањ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колико молекула убиквит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  настале деградацијом ендогених протеина као и пореклом из протеина хране чине метаболичк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pool 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се усмерава се ка катаболичким ил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наболичким путе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тицај хормона на метаболизам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Хормон раста и андрог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наболички ефекат на метаб.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икокортикои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ишу катаболизам протеина у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ериф.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јетри убрзавају синтезу енз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ва синтезу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9600" y="880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48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66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која садрже аз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инокиселине и проте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арење и апсорпциј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телесних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1760" y="15238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авремене аналитичке мето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идентификују преко 300 различитих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структурни елементи ћелија или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растворени у интрацел.или екстрацелуларној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се разликују п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саставу, структури, функцији, расподел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 , као и конц. у тел.течностима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дрављу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лаб. испитивања најприступачнији су проте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цереброспин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мнионск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еритонеалне, плеур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аливе и фец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65040" y="1238400"/>
            <a:ext cx="9794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Одржање колоидно осмотског притиск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оидно осмотски притисак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е супротставља се хидростатс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у крви који би довео до изласк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интраваскуларног прос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 тај начин одржава се стална запре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у цирк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Албумин главни носилац колоидно осмотског притиска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Транспо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аболити, хормони, лекови и јони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ују се путем крви везани 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 транспор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сне киселине, билирубин, неке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уги протеини транспорт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вожђе (трансферин), кортизол, тирокс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е, липосол.витамине,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1760" y="152388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Заштитна функ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имуноглобулини су антитела ко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езбеђују одбрану организма од инфек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истем комплемента се састоји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их компонен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ћина фактора коагулације су протеинск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р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акутне фазе - протективне ф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синтеза убрзана у инфламаторним реакцијама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212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уферска улог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имају улогу у одржању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 физиолошком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, они су негатив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електрисани и могу да везују водоников ј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2120" y="1595520"/>
            <a:ext cx="9786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упак за раздвајање плазма протеина 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у нето наелектрисањ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аснива се на способности кретања раство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а плазме у одговарајућем пуферу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тицајем електр.по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различитих физичко-хемијских ос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икују се и по електроф. покретљ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960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плазме даје следеће категорије проте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γ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серу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исте категорије без фибрин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неких патолошких стања долази до поремећаја односа између појединих плазм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тски профил – олакшава дијагн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1680" y="1523880"/>
            <a:ext cx="9858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плазми  је око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65-85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серуму је око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60-80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ћина плазма протеина, синтетише с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а изузетком имуноглобулина и протеинск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хорм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купна концентрација протеин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дставља важан биохемијски парамет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же указати на одређена патолошка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мањена конц. протеина у плазми (Хипопротеинемиј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5088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а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а синт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ак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вољно уношење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у варењу и апсорп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е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ури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преко ГИТ тра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37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Да обновимо о ПРОТЕИНИМА….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9000"/>
          </a:bodyPr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Органски макроелементи изг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од  атома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O, N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ао и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Z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Налазе се у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крви,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ма, к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костима, у свим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вим материја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укљу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ују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 вирусе и б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љ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Мономерне јединице су аминокисел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Разликују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броју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облику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фреквенцији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јављањ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као и у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функциј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343px-Main_protein_structure_levels_en_svg"/>
          <p:cNvPicPr/>
          <p:nvPr/>
        </p:nvPicPr>
        <p:blipFill>
          <a:blip r:embed="rId1"/>
          <a:stretch/>
        </p:blipFill>
        <p:spPr>
          <a:xfrm>
            <a:off x="7240680" y="1170000"/>
            <a:ext cx="29192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проте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а концентрација проте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у услови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ехидратаци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ди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г повраћ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ре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ној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760" y="12384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вантитативно најзначајнији протеин плазм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(55-65%) (концентрација око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45g/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с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лог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државање колоидно-осмотског (онкотског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а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нспортна (билирубин, масне кис., тирок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ијодтиронин, кортизол, алдостерон, мног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, калцију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р ендогених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36320" y="152388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 албумина у плазми зависи од уношења АК 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њено одређивање може бити парамет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роцену нутритивног стату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мене конц. албу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тичу на однос слободног и везаног обл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ганда које транспорт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албумина утиче на метаболизам билирубина,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a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них кис., дејство хормона и лек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 – праћена појавом едема (оток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2120" y="1738440"/>
          <a:ext cx="9651960" cy="5680080"/>
        </p:xfrm>
        <a:graphic>
          <a:graphicData uri="http://schemas.openxmlformats.org/drawingml/2006/table">
            <a:tbl>
              <a:tblPr/>
              <a:tblGrid>
                <a:gridCol w="4826160"/>
                <a:gridCol w="4825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тањ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синтез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бољења јет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апсорп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нутри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Убрзан катаболиз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штећење тки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нфлама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убитак проте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тски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патија 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diabetesu,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истемском лупус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Ентеропат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ешке опекот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дистрибуц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scites (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злазак из интраваскуларног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ростора  у перитонеалну течнос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албум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а у дехидрат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актанти акутне фа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1760" y="1309680"/>
            <a:ext cx="9937800" cy="56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 односу на “понашање”  у акутним стањ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акон операција, инфаркта миокарда, акутних инфламација) плазма протеини се могу поделити 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итивне и нега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и реактантни акутне ф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лазма протеини чија се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о ↑ у овим патолошким стањ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Ц-реактивни проте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антитрип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 кисели гликопротеин, хаптоглоб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, церулоплазм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960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1760" y="13809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тише с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лазми  нормалнa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5 m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P везује полисахари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тне у многим бактеријама, гљивам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раз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а се комплексира CRP постаје активат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комплемента и иницира опсонизациј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агоцитозу и лизу нападнутих ћел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епознавање, везивање и уклањање токс. супстанци из циркул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34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ан пораста CRP-а у плазм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специфич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исутан је у ток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нфаркта миокар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тр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запа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перативних захв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еопластичних пролифер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протеин који се синтетиш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 електрофореграм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дваја се у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- глобулинској фрак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ф-ј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 слободног хемоглоб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ваки молекул хаптоглобина може да веж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ва молекула хем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је иреверзибилно, настали комле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 уклања из плазме дејством ћелиј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тикулоендотелног сист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1760" y="12384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0000"/>
          </a:bodyPr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хаптоглобина у плазми индиковано је у случа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а акутне фазе и убрзане хем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пекот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на интраваскуларна хемол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хемолизна анемија, трансфузија крви, малар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ПЕПТИДИ..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309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.. су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амиди кисе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настају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сједињав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ањ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ем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пептидном везом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уз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издвајање молекул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Latn-R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Пептидна вез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реaкцијом карбоксилне груп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једне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са амин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групо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друге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>
            <a:lum bright="-12000"/>
          </a:blip>
          <a:srcRect l="0" t="0" r="2172" b="0"/>
          <a:stretch/>
        </p:blipFill>
        <p:spPr>
          <a:xfrm>
            <a:off x="5680080" y="1380960"/>
            <a:ext cx="4479840" cy="393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rcRect l="0" t="0" r="5066" b="0"/>
          <a:stretch/>
        </p:blipFill>
        <p:spPr>
          <a:xfrm>
            <a:off x="2579760" y="5595840"/>
            <a:ext cx="25304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960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 -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2-гликопроте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1760" y="14526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оји се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едног полипеп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ланца и 6 до 7 атома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ак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ункције церулоплазм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зимска активност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ерооксидаз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"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лизује оксидаци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l)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огућава везивање гвожђа за трансфе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ко 95% укупне количине бакр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адржано је у структури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лује као антиоксид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960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с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инфекцијама, малигним болест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уми, болести ретикулоендотел.си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ф-је или опструкције жучних пут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Wilson-ov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апсорпције, малнутриције, нефр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шких 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1- гликопроте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76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же да веже дв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va Fe(l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 у плазми везуј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псорбовано 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гестивног тракта и транспортује га до јетр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ћелија које корис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а синтез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оглобина, цитохр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трансферина у плазми зависи од расположивости гвожђ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недостатку гвожђа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а у плазми расте због ↑ синт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2120" y="1778040"/>
            <a:ext cx="9715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везивања за рецептор ослобађа с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е преузима ћелија, док се апотрансфер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 поново у плазму где може поново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ши ф-ју транспортног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нормалним околностима око 1/3 трансферина засићена је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к је преостала количина слобод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3760" y="17384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диференцијалној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g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немија и праћењ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о је концентрациј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ни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жи је и проценат засићења трансфе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вожђ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о је анемија последица поремећаја уград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Ер, концентрација транферина је снижена или нормална а степен засићења вис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3760" y="130968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гатив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е код инфламаторних 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лигних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специфично снижен к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е, хроничних болести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ања праћених губитком прот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ефротски 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трансфе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оку примене естр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беланчевине које се синтетишу као одгов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 присуство антигена (А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рше ф-ју антитела (Ат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езбеђују хуморалну заштиту орган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познајући антиге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ицирајући механизам за њихово уништ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212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1760" y="11667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4000"/>
          </a:bodyPr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за антите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плазмоцитима који настају трансформациј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 - лимфоцита након стимулације Аг у слез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мфним жлездама, костној срж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лазмоцити секретују А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соко специфич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а да вежу А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 се комплекс Аг-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т – беланчевине из групе глоб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ф-је у имунолошком одговору називају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32040" y="592200"/>
            <a:ext cx="87184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ма структури и биолошким својств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 се сврставају у 5 основ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лас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протеин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937120" y="0"/>
            <a:ext cx="4222800" cy="76201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222120" y="1309680"/>
            <a:ext cx="5588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ептидазе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висно од локализације пептидне везе коју хидролизуј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нд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гз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карбокси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амин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66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нижење 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3668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стварања имуноглобулин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мфоидни малигнитети,токсичне р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суфицијенција бубрега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кови: фенитоин, пенициламин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имуноглобулина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утем бубрега (нефротски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ИТ тракта (ентеропатиј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ко коже (опекот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600" y="3096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овећање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36680" y="1452600"/>
            <a:ext cx="101440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фек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жне, цревне, респираторне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русне инф-је, маларија –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.бактеријске инф-је – св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утерине инф-је 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ви пупча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утоимуне реакциј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– предомини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ични активни хепатити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ергијске р-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0000"/>
                </a:solidFill>
                <a:latin typeface="Arial"/>
                <a:ea typeface="Arial"/>
              </a:rPr>
              <a:t>Протеинур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ство протеина у урину у количини већој о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50 mg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1,73m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Протеинур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) функционална или асимптоматс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) органс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) пара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5222880" y="4167360"/>
            <a:ext cx="4654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7960" y="1809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Гломерулар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оштећења гломеру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&gt;2g</a:t>
            </a:r>
            <a:r>
              <a:rPr b="0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е се протеини велике молекулске ма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овање токсина,  инфек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скуларних 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акутни постстрептококни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гломерулонефрит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6437160" y="237960"/>
            <a:ext cx="3461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79600" y="1238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Тубулар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1-3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g</a:t>
            </a:r>
            <a:r>
              <a:rPr b="0" lang="sr-Latn-RS" sz="28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благе до умер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лучују се протеини ниске РММ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-микроглобул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акутне тубуларне некр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хроничног 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пијело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реналне трансплантац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интоксикације тешким метал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Latn-CS" sz="2800" spc="-1" strike="noStrike">
                <a:solidFill>
                  <a:srgbClr val="00cc00"/>
                </a:solidFill>
                <a:latin typeface="Arial"/>
                <a:ea typeface="Arial"/>
              </a:rPr>
              <a:t>Wilsonove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Функцио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ртостатска 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лагање претераној топлоти/ хла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изичко вежб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удно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“марш протеинурија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2" descr="http://www.blic.rs/data/images/2011-09-10/174724_vojna-parada-foto-milos-peric-0033_origh.jpg"/>
          <p:cNvPicPr/>
          <p:nvPr/>
        </p:nvPicPr>
        <p:blipFill>
          <a:blip r:embed="rId1"/>
          <a:stretch/>
        </p:blipFill>
        <p:spPr>
          <a:xfrm>
            <a:off x="846000" y="4952880"/>
            <a:ext cx="4233960" cy="242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www.grupko.rs/uploaded_pictures/content/ponude/450x320/690-dinara-umesto-2-000-dinara-za-mesec-dana-vezbanja-u-teretani-sa-kardio-programom-sada-je-pravo-vreme-da-se-pokrenete-128.jpg"/>
          <p:cNvPicPr/>
          <p:nvPr/>
        </p:nvPicPr>
        <p:blipFill>
          <a:blip r:embed="rId2"/>
          <a:stretch/>
        </p:blipFill>
        <p:spPr>
          <a:xfrm>
            <a:off x="5722920" y="4952880"/>
            <a:ext cx="34178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07960" y="380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4000"/>
          </a:bodyPr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00cc00"/>
                </a:solidFill>
                <a:latin typeface="Arial"/>
                <a:ea typeface="Arial"/>
              </a:rPr>
              <a:t>Пре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хипертенз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конгестивно срчано оштећењ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дехидрата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00cc00"/>
                </a:solidFill>
                <a:latin typeface="Arial"/>
                <a:ea typeface="Arial"/>
              </a:rPr>
              <a:t>Пост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Обољења (инфективна или малигн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мокраћне беш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е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р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проста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арапротеинурија </a:t>
            </a:r>
            <a:br>
              <a:rPr sz="3600"/>
            </a:b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   - </a:t>
            </a:r>
            <a:r>
              <a:rPr b="1" i="1" lang="sr-RS" sz="3200" spc="-1" strike="noStrike">
                <a:solidFill>
                  <a:srgbClr val="ffff00"/>
                </a:solidFill>
                <a:latin typeface="Garamond"/>
              </a:rPr>
              <a:t>Појава парапротеина у мокраћи</a:t>
            </a:r>
            <a:br>
              <a:rPr sz="36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7960" y="159552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2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грешка у синтези тешких и лаких ланаца имуноглобул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nce-Jone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о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protein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ецифичан нискомолекуларни протеин који се излучује у урину код више од половине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лтиплим мијелом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урину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кроглобулинемиј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агулише на Т од 45-60</a:t>
            </a:r>
            <a:r>
              <a:rPr b="0" lang="sr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поново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вара даљим загревањем до кључ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8582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Протеинурије – </a:t>
            </a: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лабораторијски тестови за одређивање протеина у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960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литативно одређи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ови са реагенс трак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 са сулфосалицилном кисе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нтитативно одређивање (24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 h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урин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иурет мет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ода везивања спец. бо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урбидиметриј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6" descr="http://www.vet.uga.edu/ivcvm/courses/vpat5215/urinary/uremia/images/F06255.jpg"/>
          <p:cNvPicPr/>
          <p:nvPr/>
        </p:nvPicPr>
        <p:blipFill>
          <a:blip r:embed="rId1"/>
          <a:stretch/>
        </p:blipFill>
        <p:spPr>
          <a:xfrm>
            <a:off x="6794640" y="2023920"/>
            <a:ext cx="10000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Протеинурије – доказивање тест тракам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из урина мењају боју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тетрабромфенол плаво) од жуте преко плаво-зелене до плаве, без промене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Лажно пози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алкалан урин, контаминација узорка или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осу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хематур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висока релативна густина у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Лажно нега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и,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Bence-Jones-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ови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елуцу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176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ење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апочињ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ендопептид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аје активацијом неактивног прекурс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епсиногена под дејство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д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хидролизује пептидне везе које гра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ароматичне АК (фенилаланин и тирозин) с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другим 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23040" y="166680"/>
            <a:ext cx="2691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150920" y="880920"/>
          <a:ext cx="7572240" cy="5761080"/>
        </p:xfrm>
        <a:graphic>
          <a:graphicData uri="http://schemas.openxmlformats.org/drawingml/2006/table">
            <a:tbl>
              <a:tblPr/>
              <a:tblGrid>
                <a:gridCol w="2524320"/>
                <a:gridCol w="2935080"/>
                <a:gridCol w="2112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SA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зул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замућењ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арб.је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ближна концентрација протеина у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гатив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ма замуће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lt;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р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Једва 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2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без гранул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ом без флокул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ама и флокулациј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-5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4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рудва преципитираних проте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gt;5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6"/>
          <p:cNvSpPr/>
          <p:nvPr/>
        </p:nvSpPr>
        <p:spPr>
          <a:xfrm>
            <a:off x="2436840" y="673884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Табела:Резултати теста са сулфосалицилном кисел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92d05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шкарац старости 44 године, примљен је у болницу  са отоком лица који траје 6-8 недеља уназад. На основу анамнестичких података, лекар сазнаје да је отеченост капака трајала већ недељама и да пацијент од детињства има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тип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Поред отечености лица лекар је приметио и отоке на ногама. Пацијент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акође наводи и да  је имао обострану упалу крајника два месеца пре пријема у болниц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3760" y="523800"/>
            <a:ext cx="94298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b050"/>
                </a:solidFill>
                <a:latin typeface="Arial"/>
                <a:ea typeface="Arial"/>
              </a:rPr>
              <a:t>Приказ случаја 1- Лабораторијски налаз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52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64 - 83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8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35- 52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Холестеро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2,2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       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3,1-5,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ТГ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5,5 ↑                     0,1-1,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фосфо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,18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↑                   0,8-1,6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алцијум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,8  ↓                     2,02-2,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ре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2,5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3,0-8,0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9,2g 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лиренс креатинин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0,5 ml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/sec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1,47-2,2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176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b050"/>
                </a:solidFill>
                <a:latin typeface="Arial"/>
                <a:ea typeface="Arial"/>
              </a:rPr>
              <a:t>Приказ случаја 1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36680" y="130968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1000"/>
          </a:bodyPr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Навести узроке настанка нефротског синдром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и основне карактеристике болест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2. Које су улоге протеина крвне плазм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3. Навести узроке хипопороте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4. Објаснити најважније улоге албумин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5. Који су узроци хипоалбум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Зашто пацијент има оток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6. Да ли би требало проверити конц.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Ca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 серу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и зашт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7. Протеинурије – дефиниција и подел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8. Који су лабораторијски тестови за одређивање протеина у урин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25 година јавља се лекару због малаксалости,  продуктивног кашља и температуре 39,5</a:t>
            </a:r>
            <a:r>
              <a:rPr b="0" lang="sr-R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која траје два дана уназад. Прегледом на плућима установљен је пооштрен дисајни шум,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RDG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лућа показује промене које иду у прилог обостраној бронхопнеумониј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Лабораторијски налаз: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реф.вред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еукоцити                                20.06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      (3.70-10.00) 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Неутрални гранулоцити%      85.09                  (44.00-72.00)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RP                                          120                     (0.0-5.0) mg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1760" y="38088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риказ случаја 2</a:t>
            </a:r>
            <a:r>
              <a:rPr b="0" i="1" lang="sr-RS" sz="3600" spc="-1" strike="noStrike">
                <a:solidFill>
                  <a:srgbClr val="00b050"/>
                </a:solidFill>
                <a:latin typeface="Arial"/>
                <a:ea typeface="Arial"/>
              </a:rPr>
              <a:t>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93760" y="18097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а су реактанти акутне фаз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вести пози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а је улога Ц-реактивног протеина у организ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им запаљенских процеса у којим још стањима Ц-реактивни протеин показује пораст концентрације у серу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је значај пораста неутрофилних гранулоцита код нашег пацијент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Варење полипептида у танком цреву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9376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анкреасни ензи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лу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се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 лумен дуоденума у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неактив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обли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ндопептидаз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66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рипс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- х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имотрипс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- п</a:t>
            </a:r>
            <a:r>
              <a:rPr b="0" lang="en-AU" sz="3200" spc="-1" strike="noStrike">
                <a:solidFill>
                  <a:srgbClr val="ffff66"/>
                </a:solidFill>
                <a:latin typeface="Arial"/>
              </a:rPr>
              <a:t>роеласта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Егзопептидаз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- прокарбоксипептидазе А и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4722840" y="3238560"/>
            <a:ext cx="5437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57920" y="309600"/>
            <a:ext cx="74991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ffff00"/>
                </a:solidFill>
                <a:latin typeface="Arial"/>
              </a:rPr>
              <a:t>Варење полипептида у танком цреву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5332320"/>
            <a:ext cx="103852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66"/>
                </a:solidFill>
                <a:latin typeface="Arial"/>
              </a:rPr>
              <a:t>Карбоксипептидаза 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 сад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цинк и одваја ароматичне или алифатичне аминокиселине  са карбоксилног крај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епти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sr-R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66"/>
                </a:solidFill>
                <a:latin typeface="Arial"/>
              </a:rPr>
              <a:t>Карбоксипептидаза Б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сад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цинк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одваја базне аминокиселине с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арбоксилног краја пепти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66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12640" y="1251000"/>
            <a:ext cx="1925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Трипсиноген</a:t>
            </a:r>
            <a:r>
              <a:rPr b="0" lang="en-US" sz="2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479760" y="1490760"/>
            <a:ext cx="372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327440" y="1170000"/>
            <a:ext cx="13802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Трипси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415320" y="1409760"/>
            <a:ext cx="36115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цревна ентеропептида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948240" y="1889280"/>
            <a:ext cx="8168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Трипсин = пептидне везе с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арбоксилне стране БАЗНИХ АК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150200" y="2684520"/>
            <a:ext cx="2498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Химотрипсиноге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3639960" y="2930400"/>
            <a:ext cx="2710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285800" y="2529000"/>
            <a:ext cx="1346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рипси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294960" y="2603520"/>
            <a:ext cx="29484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Химотрипсин (pH8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68720" y="3249720"/>
            <a:ext cx="77155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Химотрипсин = пептидне везе са карбоксилне стране ароматичних 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1653480" y="4110120"/>
            <a:ext cx="189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Проеласта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6640200" y="4110120"/>
            <a:ext cx="14641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Еласта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521600" y="3940200"/>
            <a:ext cx="1346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рипси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838680" y="4317840"/>
            <a:ext cx="270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686520" y="4395960"/>
            <a:ext cx="90198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66"/>
                </a:solidFill>
                <a:latin typeface="Arial"/>
              </a:rPr>
              <a:t>Еластаза = </a:t>
            </a: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пептидне везе са карбоксилне стран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еутралних АК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523800"/>
            <a:ext cx="81180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Варење полипептида у танком црев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1380960"/>
            <a:ext cx="104094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Интестиналне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ептидазе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- мембрански ензими микровила ентероци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хидролизују пептид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астале дејством панкреасних енз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Интестиналне</a:t>
            </a:r>
            <a:r>
              <a:rPr b="0" lang="en-A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0" lang="en-AU" sz="2800" spc="-1" strike="noStrike">
                <a:solidFill>
                  <a:srgbClr val="ffff66"/>
                </a:solidFill>
                <a:latin typeface="Arial"/>
              </a:rPr>
              <a:t>ептидаз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- енд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- аминопептидаз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- ди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Продукти панкреасних протеаза и интесталних пептидаз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у танком цреву с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ди-,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ри-пептиди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слободне амино кисел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uthor</cp:lastModifiedBy>
  <dcterms:modified xsi:type="dcterms:W3CDTF">2018-09-02T22:37:38Z</dcterms:modified>
  <cp:revision>222</cp:revision>
  <dc:subject/>
  <dc:title>PowerPoint Presentation</dc:title>
</cp:coreProperties>
</file>